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536E-A3C0-4535-B05B-2490CE199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AFB-468C-43AE-90A2-A29AB97B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B7C-D4E3-429F-B7DE-D234DC24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DF7-2B98-447A-81AA-116066FB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09F-2299-4D5E-856D-E31F5E7F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1B4-6A12-4AF5-ACB8-57F17AD5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484-3FE2-42C0-9B4C-2C3D5A0C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33C-5C46-473A-9B1E-7DE86A61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0F6-5E53-4B65-9755-0712D0ED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BD0-6469-43F2-B34F-7593B8A7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ED5-E480-48A2-91A4-0426F17D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245-870E-4C77-AFE1-A0CF1C6E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AB1-6A11-4C2C-B0CA-A0C3E0B9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7DBF-D58E-4C87-A4C6-F12244B48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was put in jail for a while but was never convicted of a crime. Why was she not convi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had a good attorney who defended her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jurors could be found to serve at the tr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everyone wa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jury ruled that Rufus, the fisherma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ted the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ctim’s body was decomposed and 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2200" y="523728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0520" y="32814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04920" y="426096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77920" y="259704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he memory of which of the things listed below caused Miss Annie’s face to become young a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st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1160" y="478008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79360" y="35640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85840" y="4162320"/>
            <a:ext cx="365040" cy="4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79360" y="2965320"/>
            <a:ext cx="3654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78160" y="5067360"/>
            <a:ext cx="96228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 and her friend Connie are in Galvest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a school field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live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 K.T.’s grandmother for spring br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are traveling to South Texa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n the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1160" y="40132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79360" y="282240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1160" y="3421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222876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characters listed below, which one is still living at the time that K.T. and Connie find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fus, the fisher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Ruth D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74680" y="4761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79360" y="296064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77920" y="3564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6480" y="416088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source of information for K.T. and Connie as the story procee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of the treasure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Annie’s d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’s 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 articles from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7920" y="4756320"/>
            <a:ext cx="365040" cy="47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6480" y="35654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4680" y="296244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fate of Arli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es many years after the meeting o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r with An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till lives in a nursing home in Galve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killed in WW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lips off the pier and drow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79360" y="4756320"/>
            <a:ext cx="365400" cy="47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77920" y="35575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1440" y="2679840"/>
            <a:ext cx="365400" cy="47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versation K.T. and Connie overhear between Arlis and Anna leads them to believe which of the following about Johnny Schmid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never made it to the battle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 respected Johnny and thought he w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loved John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was an officer from a weal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veston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1160" y="52452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79360" y="364500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81160" y="45543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84400" y="296532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Connie and K.T. arrive in a location that allowed them to overhear the conversation on the pi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wam from Mrs. Watson’s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es for the East Pier in 1918 w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ed into their backpack computers (BP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borrowed a small boat and flo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the p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rept onto the pier and hid behind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ile of fish ne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5840" y="5626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77920" y="3645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5840" y="46339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4400" y="296244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the treasure box come to be buried close to the East Pier where it was found by K.T. and Conn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lis buried it there after he stole the box from An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and Anna buried the box together befo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left for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hid the box from her parents by burying it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nd by the East P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s. Watson buried the box in a place she knew K.T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nie might look so that they would 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interesting to f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1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4400" y="52149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2600" y="35481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84400" y="44053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2600" y="292896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was NOT found in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litary me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newspaper clipp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79360" y="44020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77920" y="3213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9360" y="37972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77920" y="263052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09-04T20:02:13Z</dcterms:modified>
  <cp:revision>79</cp:revision>
  <dc:subject/>
  <dc:title>PowerPoint Presentation</dc:title>
</cp:coreProperties>
</file>